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30E-9B37-42E8-9754-25893AA9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328-505B-44E5-BA66-6E166FD3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83D-5849-4F65-96AE-FD78438C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037-E23A-4115-AEC7-A35448FC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A206-FEE7-49BB-A70C-0B21E2F0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DF1-3A80-4D50-A0D7-78EE1945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B778-DFFE-45CD-BC8D-6C602547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563-C159-404B-8210-BB342324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F4C7-7715-4B5C-926E-7701D31B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9CCF-12E6-45E6-81CD-A0CD3234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9B3-465D-474E-A0E5-F4D40D68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98D6-8592-4379-8F67-2E79BFE2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452D-709E-428A-8B17-90812EF45F2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8889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770580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8036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48132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46782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63640" y="115920"/>
            <a:ext cx="4923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182520"/>
            <a:ext cx="860724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328680"/>
            <a:ext cx="8318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77840"/>
            <a:ext cx="813600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06472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848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74920" y="189000"/>
            <a:ext cx="4867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35280" y="115920"/>
            <a:ext cx="40100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42920" y="115920"/>
            <a:ext cx="648180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2472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486900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4883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8498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35000"/>
            <a:ext cx="864072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19480" y="115920"/>
            <a:ext cx="42559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8508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888984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888660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090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090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260280"/>
            <a:ext cx="8889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06:56:05Z</dcterms:created>
  <dc:creator>s</dc:creator>
  <dc:description/>
  <dc:language>en-US</dc:language>
  <cp:lastModifiedBy>Daneliuc</cp:lastModifiedBy>
  <dcterms:modified xsi:type="dcterms:W3CDTF">2009-06-03T10:18:03Z</dcterms:modified>
  <cp:revision>6</cp:revision>
  <dc:subject/>
  <dc:title>Diapositiva 1</dc:title>
</cp:coreProperties>
</file>